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7CB-ABC4-466B-B43F-0ABA479D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F04-67DD-45BB-B3CF-87A88F0B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38F-3736-42D5-8824-3CB69129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4D0-870C-481B-9A7F-08550F71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D12-3606-4004-95F7-29A0FF5F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4AD-ACC5-409E-A938-C77B2F1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3D1-B44F-4352-A74D-E21069E4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AF4-C548-430A-8ADB-06A327F0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C3B-D829-4CC9-9C06-08529985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A56-6783-4DC2-9177-5E1906ED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90D-917B-4BF8-9116-F3924C0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E07-C95F-4AA9-B5F3-90BA9431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63DFE-568C-4404-A32F-530BC98B2573}" type="datetime">
              <a:rPr b="0" lang="en-US" sz="1200" spc="-1" strike="noStrike">
                <a:solidFill>
                  <a:srgbClr val="ffffff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E79D4-67D8-442F-9141-EB11412BF848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760"/>
            <a:ext cx="8229600" cy="21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onstantia"/>
              </a:rPr>
              <a:t>NOT SO GREAT EXPECTATIONS</a:t>
            </a:r>
            <a:br>
              <a:rPr sz="5600"/>
            </a:b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OURTNEY KURTAS AND VICTOR MAGRO</a:t>
            </a:r>
            <a:endParaRPr b="1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4636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" name="Picture 4" descr="fulton operal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Setting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 Present day Las Angeles, Californ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reviously: A young Gentleman, by the name of Mr. Pip, has just anonymously bought his acquaintance, Mr. Herbert Pocket, into a partnership with a “retailer.” He is now going to visit the love of his life, Estella, in BEVERLY HILLS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AS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ip - _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ld Pip -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stella - 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rs. Brandley - _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rummle - 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ld Sailor/Convict - 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Act One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hapter 3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age 27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Act Two </a:t>
            </a: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hapter 38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age 28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THE END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55:19Z</dcterms:created>
  <dc:creator>MTSD MTSD</dc:creator>
  <dc:description/>
  <dc:language>en-US</dc:language>
  <cp:lastModifiedBy>MTSD MTSD</cp:lastModifiedBy>
  <dcterms:modified xsi:type="dcterms:W3CDTF">2009-02-26T19:33:53Z</dcterms:modified>
  <cp:revision>3</cp:revision>
  <dc:subject/>
  <dc:title>NOT SO GREAT EXPECTATIONS COURTNEY KURTAS AND VICTOR MAGRO</dc:title>
</cp:coreProperties>
</file>